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BC6EAD4-9DB1-482F-ACF2-6E0D07C8A5B8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F1109085-46B0-4496-BC9D-A90184F2461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BC005EC-5AEC-4E26-8D58-76133C82196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D33F3C2-7246-40E8-B9CF-62822E13C54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41D3964-8CA9-4925-834C-891050F1C2C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CCBB87E-89B6-45D1-8DCA-1BC4F0CC22A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3F65C58-8C7A-4AEF-A20F-CD7327B3281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28AA4DF-326C-4ADF-83B6-378AD914C6B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6E90498-0E4E-4BB1-B26D-2BA30C68130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B912E8B-AE5C-4D1E-9436-4562277DB083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A63618AD-0817-4C73-B7B4-AC2BD0D0567F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8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8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8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8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, write program 8A to sort a linked list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irs of real numbers into ascending ord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the capability to sort on either field of the pai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data in the right two columns of table D14, page 761, in the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wo sorts, one on each f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a test report describing both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80640" y="1501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 algorith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orts by finding the correct sorted position for a data element, then inserting the data element into the data list at that position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ascending order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arches forward to the end of the data list or until the new data element is less than the current data element in the lis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w element is inserted in front of the current list element or at the end of the lis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70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985680" y="2351160"/>
            <a:ext cx="6819840" cy="1054080"/>
            <a:chOff x="985680" y="2351160"/>
            <a:chExt cx="6819840" cy="1054080"/>
          </a:xfrm>
        </p:grpSpPr>
        <p:sp>
          <p:nvSpPr>
            <p:cNvPr id="167" name="Rectangle 6"/>
            <p:cNvSpPr/>
            <p:nvPr/>
          </p:nvSpPr>
          <p:spPr>
            <a:xfrm>
              <a:off x="985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1557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2128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2700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3271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843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280960" y="235116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Arc 13"/>
            <p:cNvSpPr/>
            <p:nvPr/>
          </p:nvSpPr>
          <p:spPr>
            <a:xfrm>
              <a:off x="2598480" y="2581200"/>
              <a:ext cx="88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4421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4992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5564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6135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6707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7278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variant of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partitions the data into sorted and unsorted area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ata are sorted by removing elements from the unsorted area and inserting them in order into the sorted are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950760" y="1808280"/>
            <a:ext cx="6993000" cy="1776600"/>
            <a:chOff x="950760" y="1808280"/>
            <a:chExt cx="6993000" cy="1776600"/>
          </a:xfrm>
        </p:grpSpPr>
        <p:sp>
          <p:nvSpPr>
            <p:cNvPr id="184" name="Rectangle 6"/>
            <p:cNvSpPr/>
            <p:nvPr/>
          </p:nvSpPr>
          <p:spPr>
            <a:xfrm>
              <a:off x="1001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72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2144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2715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3287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3858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554280" y="180828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4437000" y="235440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5008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558000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151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Rectangle 17"/>
            <p:cNvSpPr/>
            <p:nvPr/>
          </p:nvSpPr>
          <p:spPr>
            <a:xfrm>
              <a:off x="672300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7294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950760" y="3027600"/>
              <a:ext cx="3468600" cy="210960"/>
            </a:xfrm>
            <a:custGeom>
              <a:avLst/>
              <a:gdLst/>
              <a:ahLst/>
              <a:rect l="l" t="t" r="r" b="b"/>
              <a:pathLst>
                <a:path w="2185" h="133">
                  <a:moveTo>
                    <a:pt x="0" y="0"/>
                  </a:moveTo>
                  <a:lnTo>
                    <a:pt x="0" y="132"/>
                  </a:lnTo>
                  <a:lnTo>
                    <a:pt x="2184" y="132"/>
                  </a:lnTo>
                  <a:lnTo>
                    <a:pt x="2184" y="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Rectangle 20"/>
            <p:cNvSpPr/>
            <p:nvPr/>
          </p:nvSpPr>
          <p:spPr>
            <a:xfrm>
              <a:off x="2271600" y="3273480"/>
              <a:ext cx="8265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Sorted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4474800" y="3027600"/>
              <a:ext cx="3468960" cy="210960"/>
            </a:xfrm>
            <a:custGeom>
              <a:avLst/>
              <a:gdLst/>
              <a:ahLst/>
              <a:rect l="l" t="t" r="r" b="b"/>
              <a:pathLst>
                <a:path w="2185" h="133">
                  <a:moveTo>
                    <a:pt x="0" y="0"/>
                  </a:moveTo>
                  <a:lnTo>
                    <a:pt x="0" y="132"/>
                  </a:lnTo>
                  <a:lnTo>
                    <a:pt x="2184" y="132"/>
                  </a:lnTo>
                  <a:lnTo>
                    <a:pt x="2184" y="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>
              <a:off x="5672520" y="3273480"/>
              <a:ext cx="1073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Unsorted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Arc 23"/>
            <p:cNvSpPr/>
            <p:nvPr/>
          </p:nvSpPr>
          <p:spPr>
            <a:xfrm>
              <a:off x="2705040" y="1962360"/>
              <a:ext cx="761760" cy="495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99"/>
                  </a:moveTo>
                  <a:cubicBezTo>
                    <a:pt x="0" y="9688"/>
                    <a:pt x="9643" y="24"/>
                    <a:pt x="21555" y="0"/>
                  </a:cubicBezTo>
                </a:path>
                <a:path stroke="0" w="21600" h="21600">
                  <a:moveTo>
                    <a:pt x="0" y="21599"/>
                  </a:moveTo>
                  <a:cubicBezTo>
                    <a:pt x="0" y="9688"/>
                    <a:pt x="9643" y="24"/>
                    <a:pt x="21555" y="0"/>
                  </a:cubicBezTo>
                  <a:lnTo>
                    <a:pt x="21600" y="21600"/>
                  </a:lnTo>
                  <a:lnTo>
                    <a:pt x="0" y="21599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Arc 24"/>
            <p:cNvSpPr/>
            <p:nvPr/>
          </p:nvSpPr>
          <p:spPr>
            <a:xfrm>
              <a:off x="4170240" y="1962360"/>
              <a:ext cx="552240" cy="32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variant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be used to sort a linked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also consider using two linked lists, one unsorted and one sorted, to implement the insertion sort algorith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ertion sort is not required; you may use any sort algorithm for assignment 8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.1 process, complete the planning phase for 8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P2.1 project plan summ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4Z</dcterms:modified>
  <cp:revision>148</cp:revision>
  <dc:subject/>
  <dc:title>No Slide Title</dc:title>
</cp:coreProperties>
</file>