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7155FC0-EAF2-4816-9183-6ED72748C609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3C596F02-57BF-4FCB-877E-947FADB7B09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2440514-B2A1-4B60-8D92-3DFC5762CEA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CFA232A-58FC-4035-9A84-ABD50F1040A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A5F1E78-01B4-4297-898E-88371AE4324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356FFF6-FC5A-4B9E-9DB2-7DD4D90BD62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6C52C6D-6BE1-4571-B628-FC5C6BB2053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509F5A5-F5A9-4571-846E-C8C1CEA1D52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4F0C644-DB0E-4ECE-AEF2-5E43271060A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1280" y="6566040"/>
            <a:ext cx="2214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3100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026254BA-6ADE-4CE5-B47A-4A3AB62A6983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0DFEC72-A8F8-446A-B9F4-05795D76F5E9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88040" cy="488520"/>
            <a:chOff x="146160" y="201600"/>
            <a:chExt cx="348804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368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608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3720" y="256680"/>
              <a:ext cx="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5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876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300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604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672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71560" y="25668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320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3220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9088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3120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33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76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4080" y="461520"/>
              <a:ext cx="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9348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7280" y="46152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560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58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89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62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532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2014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760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112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804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55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24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90440" y="4615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422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6760" y="461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5216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2020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7564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426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960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512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3424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5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ormal Distribu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rmula for the normal distribution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518 contains formulas for the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927000" y="1911240"/>
                <a:ext cx="45594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6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i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page 517 in Appendix A for an algorithm to evaluate the integral using Simpson’s rule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N = 20 and an acceptable error (E) of 1E-07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are using C or C++, consider designing Simpson’s rule to accept a pointer to a function. (This makes reus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as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other languages, separate the Simpson’s rule calculation from the normal 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1.1 process, complete the planning phase for assignment 5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1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1.1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, you should complete this assignment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5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5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5A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SP1.1 to write a program to numerically integrate a function using Simpson’s rule to write a function for the normal distribu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gram should be designed to integrate using various supplied function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will need this program to calculate the values of various statistical distributions used in later program assignment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oroughly test the program.  At a minimum, use this program to calculate the values of the normal distribution integral for three valu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-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2.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993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-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0.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579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-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-1.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135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umerical Integr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inciple, numerical integration treats a function as being composed of multiple rectangular are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dds these areas to produce the integral val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rick is to sum these areas so as to minimize the err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egrating a Func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6951600" y="1905120"/>
            <a:ext cx="0" cy="3790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6311880" y="1917720"/>
            <a:ext cx="622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6275520" y="1905120"/>
            <a:ext cx="0" cy="3790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5651640" y="2079720"/>
            <a:ext cx="608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5632560" y="2082960"/>
            <a:ext cx="0" cy="3612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Line 12"/>
          <p:cNvSpPr/>
          <p:nvPr/>
        </p:nvSpPr>
        <p:spPr>
          <a:xfrm flipH="1" flipV="1">
            <a:off x="4959000" y="2611440"/>
            <a:ext cx="12600" cy="3098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4251240" y="3606480"/>
            <a:ext cx="0" cy="208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3543480" y="4731840"/>
            <a:ext cx="0" cy="96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Line 15"/>
          <p:cNvSpPr/>
          <p:nvPr/>
        </p:nvSpPr>
        <p:spPr>
          <a:xfrm flipV="1">
            <a:off x="2916360" y="5390640"/>
            <a:ext cx="0" cy="303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2919240" y="5373720"/>
            <a:ext cx="624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3546360" y="473076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4237200" y="3622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4929120" y="2641680"/>
            <a:ext cx="671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585160" y="5778360"/>
            <a:ext cx="8715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(low)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6667920" y="5794200"/>
            <a:ext cx="9738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(high)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82" name="Picture 22" descr=""/>
          <p:cNvPicPr/>
          <p:nvPr/>
        </p:nvPicPr>
        <p:blipFill>
          <a:blip r:embed="rId1"/>
          <a:stretch/>
        </p:blipFill>
        <p:spPr>
          <a:xfrm>
            <a:off x="482760" y="1447920"/>
            <a:ext cx="8207280" cy="5083200"/>
          </a:xfrm>
          <a:prstGeom prst="rect">
            <a:avLst/>
          </a:prstGeom>
          <a:ln w="0">
            <a:noFill/>
          </a:ln>
        </p:spPr>
      </p:pic>
      <p:sp>
        <p:nvSpPr>
          <p:cNvPr id="183" name="Line 23"/>
          <p:cNvSpPr/>
          <p:nvPr/>
        </p:nvSpPr>
        <p:spPr>
          <a:xfrm>
            <a:off x="901800" y="5778360"/>
            <a:ext cx="6896160" cy="12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egration Limi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etermine the integration lim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statistical functions are integrated from -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some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statistical functions have a total area of 1.0 when integrated from -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+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ymmetric Func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ymmetric functions (the normal an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-distributions), the procedure is th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4"/>
          <p:cNvGrpSpPr/>
          <p:nvPr/>
        </p:nvGrpSpPr>
        <p:grpSpPr>
          <a:xfrm>
            <a:off x="919080" y="2220840"/>
            <a:ext cx="7851960" cy="941400"/>
            <a:chOff x="919080" y="2220840"/>
            <a:chExt cx="7851960" cy="941400"/>
          </a:xfrm>
        </p:grpSpPr>
        <p:sp>
          <p:nvSpPr>
            <p:cNvPr id="189" name="Rectangle 4"/>
            <p:cNvSpPr/>
            <p:nvPr/>
          </p:nvSpPr>
          <p:spPr>
            <a:xfrm>
              <a:off x="919080" y="2220840"/>
              <a:ext cx="7851960" cy="9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1159560" y="2264040"/>
              <a:ext cx="16909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If the value of X is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557520" y="2264040"/>
              <a:ext cx="18021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then integrate from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6945120" y="2264040"/>
              <a:ext cx="349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95004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95004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>
              <a:off x="967680" y="2264040"/>
              <a:ext cx="2396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>
              <a:off x="338076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>
              <a:off x="3398400" y="2264040"/>
              <a:ext cx="2332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>
              <a:off x="574704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5764680" y="2264040"/>
              <a:ext cx="2922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870372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870372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950040" y="228168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3" name="Line 18"/>
            <p:cNvSpPr/>
            <p:nvPr/>
          </p:nvSpPr>
          <p:spPr>
            <a:xfrm>
              <a:off x="3380760" y="228168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5747040" y="228168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5" name="Line 20"/>
            <p:cNvSpPr/>
            <p:nvPr/>
          </p:nvSpPr>
          <p:spPr>
            <a:xfrm>
              <a:off x="8703720" y="228168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173240" y="2542680"/>
              <a:ext cx="6836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sitive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7" name="Rectangle 22"/>
            <p:cNvSpPr/>
            <p:nvPr/>
          </p:nvSpPr>
          <p:spPr>
            <a:xfrm>
              <a:off x="3543120" y="2554560"/>
              <a:ext cx="543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 to X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8" name="Rectangle 23"/>
            <p:cNvSpPr/>
            <p:nvPr/>
          </p:nvSpPr>
          <p:spPr>
            <a:xfrm>
              <a:off x="5828760" y="2542680"/>
              <a:ext cx="3254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9" name="Rectangle 24"/>
            <p:cNvSpPr/>
            <p:nvPr/>
          </p:nvSpPr>
          <p:spPr>
            <a:xfrm>
              <a:off x="6132240" y="2542680"/>
              <a:ext cx="3816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.5 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0" name="Rectangle 25"/>
            <p:cNvSpPr/>
            <p:nvPr/>
          </p:nvSpPr>
          <p:spPr>
            <a:xfrm>
              <a:off x="6468840" y="2542680"/>
              <a:ext cx="1684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1" name="Rectangle 26"/>
            <p:cNvSpPr/>
            <p:nvPr/>
          </p:nvSpPr>
          <p:spPr>
            <a:xfrm>
              <a:off x="6617520" y="2542680"/>
              <a:ext cx="8524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result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2" name="Line 27"/>
            <p:cNvSpPr/>
            <p:nvPr/>
          </p:nvSpPr>
          <p:spPr>
            <a:xfrm>
              <a:off x="950040" y="25437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3" name="Line 28"/>
            <p:cNvSpPr/>
            <p:nvPr/>
          </p:nvSpPr>
          <p:spPr>
            <a:xfrm>
              <a:off x="967680" y="2543760"/>
              <a:ext cx="239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4" name="Line 29"/>
            <p:cNvSpPr/>
            <p:nvPr/>
          </p:nvSpPr>
          <p:spPr>
            <a:xfrm>
              <a:off x="3380760" y="25437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5" name="Line 30"/>
            <p:cNvSpPr/>
            <p:nvPr/>
          </p:nvSpPr>
          <p:spPr>
            <a:xfrm>
              <a:off x="3398400" y="2543760"/>
              <a:ext cx="23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5747040" y="25437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7" name="Line 32"/>
            <p:cNvSpPr/>
            <p:nvPr/>
          </p:nvSpPr>
          <p:spPr>
            <a:xfrm>
              <a:off x="5764680" y="2543760"/>
              <a:ext cx="2922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8" name="Line 33"/>
            <p:cNvSpPr/>
            <p:nvPr/>
          </p:nvSpPr>
          <p:spPr>
            <a:xfrm>
              <a:off x="8703720" y="25437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9" name="Line 34"/>
            <p:cNvSpPr/>
            <p:nvPr/>
          </p:nvSpPr>
          <p:spPr>
            <a:xfrm>
              <a:off x="950040" y="256176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0" name="Line 35"/>
            <p:cNvSpPr/>
            <p:nvPr/>
          </p:nvSpPr>
          <p:spPr>
            <a:xfrm>
              <a:off x="3380760" y="256176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1" name="Line 36"/>
            <p:cNvSpPr/>
            <p:nvPr/>
          </p:nvSpPr>
          <p:spPr>
            <a:xfrm>
              <a:off x="5747040" y="256176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2" name="Line 37"/>
            <p:cNvSpPr/>
            <p:nvPr/>
          </p:nvSpPr>
          <p:spPr>
            <a:xfrm>
              <a:off x="8703720" y="256176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3" name="Rectangle 38"/>
            <p:cNvSpPr/>
            <p:nvPr/>
          </p:nvSpPr>
          <p:spPr>
            <a:xfrm>
              <a:off x="1171800" y="2822760"/>
              <a:ext cx="732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egative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4" name="Rectangle 39"/>
            <p:cNvSpPr/>
            <p:nvPr/>
          </p:nvSpPr>
          <p:spPr>
            <a:xfrm>
              <a:off x="3555000" y="2834280"/>
              <a:ext cx="9745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 to abs(X)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5" name="Rectangle 40"/>
            <p:cNvSpPr/>
            <p:nvPr/>
          </p:nvSpPr>
          <p:spPr>
            <a:xfrm>
              <a:off x="5829120" y="2822760"/>
              <a:ext cx="7077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ubtract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6" name="Rectangle 41"/>
            <p:cNvSpPr/>
            <p:nvPr/>
          </p:nvSpPr>
          <p:spPr>
            <a:xfrm>
              <a:off x="6433920" y="2822760"/>
              <a:ext cx="10173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result  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7" name="Rectangle 42"/>
            <p:cNvSpPr/>
            <p:nvPr/>
          </p:nvSpPr>
          <p:spPr>
            <a:xfrm>
              <a:off x="7240320" y="2822760"/>
              <a:ext cx="5191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rom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8" name="Rectangle 43"/>
            <p:cNvSpPr/>
            <p:nvPr/>
          </p:nvSpPr>
          <p:spPr>
            <a:xfrm>
              <a:off x="7710840" y="2822760"/>
              <a:ext cx="3268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>
              <a:off x="950040" y="28238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>
              <a:off x="967680" y="2823840"/>
              <a:ext cx="239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>
              <a:off x="3380760" y="28238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>
              <a:off x="3398400" y="2823840"/>
              <a:ext cx="23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>
              <a:off x="5747040" y="28238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4" name="Line 49"/>
            <p:cNvSpPr/>
            <p:nvPr/>
          </p:nvSpPr>
          <p:spPr>
            <a:xfrm>
              <a:off x="5764680" y="2823840"/>
              <a:ext cx="2922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5" name="Line 50"/>
            <p:cNvSpPr/>
            <p:nvPr/>
          </p:nvSpPr>
          <p:spPr>
            <a:xfrm>
              <a:off x="8703720" y="28238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950040" y="2841840"/>
              <a:ext cx="108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>
              <a:off x="95004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Line 53"/>
            <p:cNvSpPr/>
            <p:nvPr/>
          </p:nvSpPr>
          <p:spPr>
            <a:xfrm>
              <a:off x="95004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Line 54"/>
            <p:cNvSpPr/>
            <p:nvPr/>
          </p:nvSpPr>
          <p:spPr>
            <a:xfrm>
              <a:off x="967680" y="3102480"/>
              <a:ext cx="2396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Line 55"/>
            <p:cNvSpPr/>
            <p:nvPr/>
          </p:nvSpPr>
          <p:spPr>
            <a:xfrm>
              <a:off x="3380760" y="2841840"/>
              <a:ext cx="108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Line 56"/>
            <p:cNvSpPr/>
            <p:nvPr/>
          </p:nvSpPr>
          <p:spPr>
            <a:xfrm>
              <a:off x="338076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Line 57"/>
            <p:cNvSpPr/>
            <p:nvPr/>
          </p:nvSpPr>
          <p:spPr>
            <a:xfrm>
              <a:off x="3398400" y="3102480"/>
              <a:ext cx="2332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3" name="Line 58"/>
            <p:cNvSpPr/>
            <p:nvPr/>
          </p:nvSpPr>
          <p:spPr>
            <a:xfrm>
              <a:off x="5747040" y="2841840"/>
              <a:ext cx="108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4" name="Line 59"/>
            <p:cNvSpPr/>
            <p:nvPr/>
          </p:nvSpPr>
          <p:spPr>
            <a:xfrm>
              <a:off x="574704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Line 60"/>
            <p:cNvSpPr/>
            <p:nvPr/>
          </p:nvSpPr>
          <p:spPr>
            <a:xfrm>
              <a:off x="5764680" y="3102480"/>
              <a:ext cx="2922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Line 61"/>
            <p:cNvSpPr/>
            <p:nvPr/>
          </p:nvSpPr>
          <p:spPr>
            <a:xfrm>
              <a:off x="8703720" y="2841840"/>
              <a:ext cx="108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7" name="Line 62"/>
            <p:cNvSpPr/>
            <p:nvPr/>
          </p:nvSpPr>
          <p:spPr>
            <a:xfrm>
              <a:off x="870372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Line 63"/>
            <p:cNvSpPr/>
            <p:nvPr/>
          </p:nvSpPr>
          <p:spPr>
            <a:xfrm>
              <a:off x="870372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mpson’s Ru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son’s rule for calculating the integral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 is the width of the rectangular ce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is the value of the function for each x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son’s rule in another form*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N is the number of seg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e: The above equation for Simpson is a simplified form of equation A5 in the book, page 518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200160" y="1889280"/>
                <a:ext cx="8848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gh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g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g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gh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934920" y="3960720"/>
                <a:ext cx="5112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gh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,3,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w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W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,4,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w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W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gh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22Z</dcterms:modified>
  <cp:revision>138</cp:revision>
  <dc:subject/>
  <dc:title>No Slide Title</dc:title>
</cp:coreProperties>
</file>