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B780F52-84DA-4414-87AD-C81D36055BBF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BA9D716A-2711-4A04-97F6-F0208B9918E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BBE008B-5F5B-48A6-AE46-F3BBE72E9E7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428AAE9-C86A-4C40-BD48-05A6F61E0C2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BA7A00-7FB4-4FFB-8308-A75E2ABE0E7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5311A78-E555-45E6-AAFF-1897B585A03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64E7FF2-D1F1-453B-B540-91A5AF6F980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DB945B-9125-40C1-96E1-A27DF48C210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0D832DE-E194-4249-8933-7CAFCCCB2B9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790019BF-0F8A-4F8F-804A-C2BB12F5200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9D2C495-E27A-4A7E-89A8-0982844819C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2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2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2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2A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0.1 to write a program to count the total logical LOC in a program, omitting comments and blank li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counting standard (R1) and coding standard (R2) to place one logical line on each physical line and count physical li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 single count for the entire program source f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. As one test, count the LOC in programs 1A and 2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0.1 process, complete the planning phase for assignment 2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0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project plan summary (from work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1 LOC count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2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1A project plan summary (from work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IP form must show that you’re thinking about the process and how it works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9Z</dcterms:modified>
  <cp:revision>122</cp:revision>
  <dc:subject/>
  <dc:title>No Slide Title</dc:title>
</cp:coreProperties>
</file>