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D6BEF9A-25EE-4EDA-9D09-6C13AEF2E02E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F7BE8C80-F344-4956-AA39-F3D4FB09901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EBC109D-73E8-40D0-AF46-EE9BAA5395C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2B4A4C8-98C8-49A1-823B-D3622F1F4EB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26804EC-C9D3-48D3-AEA9-4F1CEDB901F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2097BAB-8FAC-4C44-B140-55F1175C290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CDDE25D-81DA-4969-B8D6-8C16B10C2A5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6F89929-EB1F-47EF-8E1B-A845ACBD0F7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D8C4758-5D4E-45D5-A5A2-4480D9AE103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1280" y="6566040"/>
            <a:ext cx="2214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3100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193B283-A3E4-4E5A-8D53-F33F8C6EE81F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7A01D741-0121-4115-A35B-B3DC3C99CC68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88040" cy="488520"/>
            <a:chOff x="146160" y="201600"/>
            <a:chExt cx="348804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368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608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3720" y="256680"/>
              <a:ext cx="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5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876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300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604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672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71560" y="25668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320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3220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9088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3120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33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76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4080" y="461520"/>
              <a:ext cx="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9348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7280" y="46152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560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58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89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62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532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2014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760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112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804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55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24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90440" y="4615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422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6760" y="461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5216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2020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7564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426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960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512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3424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43960" y="6567480"/>
            <a:ext cx="939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August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6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diction Interval Procedur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ma is the standard deviation of the regression line from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your historical object size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your historical new and changed LOC (for size) or time (for effor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historical data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5"/>
              <p:cNvSpPr txBox="1"/>
              <p:nvPr/>
            </p:nvSpPr>
            <p:spPr>
              <a:xfrm>
                <a:off x="2343240" y="2131920"/>
                <a:ext cx="42433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Distribu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distrib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imilar to the normal distrib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s fatter tai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used in estimating statistical parameters from limited dat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28800" y="1082520"/>
            <a:ext cx="7410240" cy="457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31"/>
          <p:cNvSpPr/>
          <p:nvPr/>
        </p:nvSpPr>
        <p:spPr>
          <a:xfrm>
            <a:off x="533520" y="419040"/>
            <a:ext cx="8483400" cy="552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782960" y="1576440"/>
            <a:ext cx="1800" cy="412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4714920" y="570240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4714920" y="5114880"/>
            <a:ext cx="136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4714920" y="452772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4714920" y="3941640"/>
            <a:ext cx="136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4714920" y="33386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4714920" y="275112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4714920" y="2163600"/>
            <a:ext cx="136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4714920" y="15764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789120" y="5702400"/>
            <a:ext cx="7972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Line 50"/>
          <p:cNvSpPr/>
          <p:nvPr/>
        </p:nvSpPr>
        <p:spPr>
          <a:xfrm flipV="1">
            <a:off x="7891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Line 51"/>
          <p:cNvSpPr/>
          <p:nvPr/>
        </p:nvSpPr>
        <p:spPr>
          <a:xfrm flipV="1">
            <a:off x="9936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Line 52"/>
          <p:cNvSpPr/>
          <p:nvPr/>
        </p:nvSpPr>
        <p:spPr>
          <a:xfrm flipV="1">
            <a:off x="11826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Line 53"/>
          <p:cNvSpPr/>
          <p:nvPr/>
        </p:nvSpPr>
        <p:spPr>
          <a:xfrm flipV="1">
            <a:off x="138744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Line 54"/>
          <p:cNvSpPr/>
          <p:nvPr/>
        </p:nvSpPr>
        <p:spPr>
          <a:xfrm flipV="1">
            <a:off x="15922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Line 55"/>
          <p:cNvSpPr/>
          <p:nvPr/>
        </p:nvSpPr>
        <p:spPr>
          <a:xfrm flipV="1">
            <a:off x="177948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Line 56"/>
          <p:cNvSpPr/>
          <p:nvPr/>
        </p:nvSpPr>
        <p:spPr>
          <a:xfrm flipV="1">
            <a:off x="198432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Line 57"/>
          <p:cNvSpPr/>
          <p:nvPr/>
        </p:nvSpPr>
        <p:spPr>
          <a:xfrm flipV="1">
            <a:off x="218916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Line 58"/>
          <p:cNvSpPr/>
          <p:nvPr/>
        </p:nvSpPr>
        <p:spPr>
          <a:xfrm flipV="1">
            <a:off x="237636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Line 59"/>
          <p:cNvSpPr/>
          <p:nvPr/>
        </p:nvSpPr>
        <p:spPr>
          <a:xfrm flipV="1">
            <a:off x="25812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Line 60"/>
          <p:cNvSpPr/>
          <p:nvPr/>
        </p:nvSpPr>
        <p:spPr>
          <a:xfrm flipV="1">
            <a:off x="27860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Line 61"/>
          <p:cNvSpPr/>
          <p:nvPr/>
        </p:nvSpPr>
        <p:spPr>
          <a:xfrm flipV="1">
            <a:off x="29750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Line 62"/>
          <p:cNvSpPr/>
          <p:nvPr/>
        </p:nvSpPr>
        <p:spPr>
          <a:xfrm flipV="1">
            <a:off x="31798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Line 63"/>
          <p:cNvSpPr/>
          <p:nvPr/>
        </p:nvSpPr>
        <p:spPr>
          <a:xfrm flipV="1">
            <a:off x="33847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Line 64"/>
          <p:cNvSpPr/>
          <p:nvPr/>
        </p:nvSpPr>
        <p:spPr>
          <a:xfrm flipV="1">
            <a:off x="35719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Line 65"/>
          <p:cNvSpPr/>
          <p:nvPr/>
        </p:nvSpPr>
        <p:spPr>
          <a:xfrm flipV="1">
            <a:off x="377676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Line 66"/>
          <p:cNvSpPr/>
          <p:nvPr/>
        </p:nvSpPr>
        <p:spPr>
          <a:xfrm flipV="1">
            <a:off x="398160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Line 67"/>
          <p:cNvSpPr/>
          <p:nvPr/>
        </p:nvSpPr>
        <p:spPr>
          <a:xfrm flipV="1">
            <a:off x="416880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Line 68"/>
          <p:cNvSpPr/>
          <p:nvPr/>
        </p:nvSpPr>
        <p:spPr>
          <a:xfrm flipV="1">
            <a:off x="43736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Line 69"/>
          <p:cNvSpPr/>
          <p:nvPr/>
        </p:nvSpPr>
        <p:spPr>
          <a:xfrm flipV="1">
            <a:off x="45784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Line 70"/>
          <p:cNvSpPr/>
          <p:nvPr/>
        </p:nvSpPr>
        <p:spPr>
          <a:xfrm flipV="1">
            <a:off x="478296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71"/>
          <p:cNvSpPr/>
          <p:nvPr/>
        </p:nvSpPr>
        <p:spPr>
          <a:xfrm flipV="1">
            <a:off x="497196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Line 72"/>
          <p:cNvSpPr/>
          <p:nvPr/>
        </p:nvSpPr>
        <p:spPr>
          <a:xfrm flipV="1">
            <a:off x="51768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73"/>
          <p:cNvSpPr/>
          <p:nvPr/>
        </p:nvSpPr>
        <p:spPr>
          <a:xfrm flipV="1">
            <a:off x="53816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Line 74"/>
          <p:cNvSpPr/>
          <p:nvPr/>
        </p:nvSpPr>
        <p:spPr>
          <a:xfrm flipV="1">
            <a:off x="556884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Line 75"/>
          <p:cNvSpPr/>
          <p:nvPr/>
        </p:nvSpPr>
        <p:spPr>
          <a:xfrm flipV="1">
            <a:off x="577368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Line 76"/>
          <p:cNvSpPr/>
          <p:nvPr/>
        </p:nvSpPr>
        <p:spPr>
          <a:xfrm flipV="1">
            <a:off x="59785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Line 77"/>
          <p:cNvSpPr/>
          <p:nvPr/>
        </p:nvSpPr>
        <p:spPr>
          <a:xfrm flipV="1">
            <a:off x="616572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Line 78"/>
          <p:cNvSpPr/>
          <p:nvPr/>
        </p:nvSpPr>
        <p:spPr>
          <a:xfrm flipV="1">
            <a:off x="637056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Line 79"/>
          <p:cNvSpPr/>
          <p:nvPr/>
        </p:nvSpPr>
        <p:spPr>
          <a:xfrm flipV="1">
            <a:off x="657684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Line 80"/>
          <p:cNvSpPr/>
          <p:nvPr/>
        </p:nvSpPr>
        <p:spPr>
          <a:xfrm flipV="1">
            <a:off x="676440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Line 81"/>
          <p:cNvSpPr/>
          <p:nvPr/>
        </p:nvSpPr>
        <p:spPr>
          <a:xfrm flipV="1">
            <a:off x="69692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Line 82"/>
          <p:cNvSpPr/>
          <p:nvPr/>
        </p:nvSpPr>
        <p:spPr>
          <a:xfrm flipV="1">
            <a:off x="71740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Line 83"/>
          <p:cNvSpPr/>
          <p:nvPr/>
        </p:nvSpPr>
        <p:spPr>
          <a:xfrm flipV="1">
            <a:off x="73612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Line 84"/>
          <p:cNvSpPr/>
          <p:nvPr/>
        </p:nvSpPr>
        <p:spPr>
          <a:xfrm flipV="1">
            <a:off x="75661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85"/>
          <p:cNvSpPr/>
          <p:nvPr/>
        </p:nvSpPr>
        <p:spPr>
          <a:xfrm flipV="1">
            <a:off x="777096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Line 86"/>
          <p:cNvSpPr/>
          <p:nvPr/>
        </p:nvSpPr>
        <p:spPr>
          <a:xfrm flipV="1">
            <a:off x="79596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Line 87"/>
          <p:cNvSpPr/>
          <p:nvPr/>
        </p:nvSpPr>
        <p:spPr>
          <a:xfrm flipV="1">
            <a:off x="816444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Line 88"/>
          <p:cNvSpPr/>
          <p:nvPr/>
        </p:nvSpPr>
        <p:spPr>
          <a:xfrm flipV="1">
            <a:off x="83692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Line 89"/>
          <p:cNvSpPr/>
          <p:nvPr/>
        </p:nvSpPr>
        <p:spPr>
          <a:xfrm flipV="1">
            <a:off x="855648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Line 90"/>
          <p:cNvSpPr/>
          <p:nvPr/>
        </p:nvSpPr>
        <p:spPr>
          <a:xfrm flipV="1">
            <a:off x="876132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Line 91"/>
          <p:cNvSpPr/>
          <p:nvPr/>
        </p:nvSpPr>
        <p:spPr>
          <a:xfrm flipV="1">
            <a:off x="789120" y="5686560"/>
            <a:ext cx="20448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Line 92"/>
          <p:cNvSpPr/>
          <p:nvPr/>
        </p:nvSpPr>
        <p:spPr>
          <a:xfrm>
            <a:off x="993600" y="5686560"/>
            <a:ext cx="189000" cy="1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Line 93"/>
          <p:cNvSpPr/>
          <p:nvPr/>
        </p:nvSpPr>
        <p:spPr>
          <a:xfrm flipV="1">
            <a:off x="1182600" y="5668560"/>
            <a:ext cx="204840" cy="176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Line 94"/>
          <p:cNvSpPr/>
          <p:nvPr/>
        </p:nvSpPr>
        <p:spPr>
          <a:xfrm flipV="1">
            <a:off x="1387440" y="5653080"/>
            <a:ext cx="20484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Line 95"/>
          <p:cNvSpPr/>
          <p:nvPr/>
        </p:nvSpPr>
        <p:spPr>
          <a:xfrm flipV="1">
            <a:off x="1592280" y="5637240"/>
            <a:ext cx="18720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Line 96"/>
          <p:cNvSpPr/>
          <p:nvPr/>
        </p:nvSpPr>
        <p:spPr>
          <a:xfrm flipV="1">
            <a:off x="1779480" y="5603400"/>
            <a:ext cx="204840" cy="334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Line 97"/>
          <p:cNvSpPr/>
          <p:nvPr/>
        </p:nvSpPr>
        <p:spPr>
          <a:xfrm flipV="1">
            <a:off x="1984320" y="5538960"/>
            <a:ext cx="204840" cy="64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Line 98"/>
          <p:cNvSpPr/>
          <p:nvPr/>
        </p:nvSpPr>
        <p:spPr>
          <a:xfrm flipV="1">
            <a:off x="2189160" y="5457600"/>
            <a:ext cx="187200" cy="810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Line 99"/>
          <p:cNvSpPr/>
          <p:nvPr/>
        </p:nvSpPr>
        <p:spPr>
          <a:xfrm flipV="1">
            <a:off x="2376360" y="5343480"/>
            <a:ext cx="204840" cy="1144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Line 100"/>
          <p:cNvSpPr/>
          <p:nvPr/>
        </p:nvSpPr>
        <p:spPr>
          <a:xfrm flipV="1">
            <a:off x="2581200" y="5164200"/>
            <a:ext cx="204840" cy="1792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Line 101"/>
          <p:cNvSpPr/>
          <p:nvPr/>
        </p:nvSpPr>
        <p:spPr>
          <a:xfrm flipV="1">
            <a:off x="2786040" y="4951080"/>
            <a:ext cx="189000" cy="2127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Line 102"/>
          <p:cNvSpPr/>
          <p:nvPr/>
        </p:nvSpPr>
        <p:spPr>
          <a:xfrm flipV="1">
            <a:off x="2975040" y="4674960"/>
            <a:ext cx="204840" cy="2761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Line 103"/>
          <p:cNvSpPr/>
          <p:nvPr/>
        </p:nvSpPr>
        <p:spPr>
          <a:xfrm flipV="1">
            <a:off x="3179880" y="4331880"/>
            <a:ext cx="204840" cy="3430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Line 104"/>
          <p:cNvSpPr/>
          <p:nvPr/>
        </p:nvSpPr>
        <p:spPr>
          <a:xfrm flipV="1">
            <a:off x="3384720" y="3941280"/>
            <a:ext cx="187200" cy="390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Line 105"/>
          <p:cNvSpPr/>
          <p:nvPr/>
        </p:nvSpPr>
        <p:spPr>
          <a:xfrm flipV="1">
            <a:off x="3571920" y="3500280"/>
            <a:ext cx="204840" cy="4413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Line 106"/>
          <p:cNvSpPr/>
          <p:nvPr/>
        </p:nvSpPr>
        <p:spPr>
          <a:xfrm flipV="1">
            <a:off x="3776760" y="3076200"/>
            <a:ext cx="204840" cy="4237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Line 107"/>
          <p:cNvSpPr/>
          <p:nvPr/>
        </p:nvSpPr>
        <p:spPr>
          <a:xfrm flipV="1">
            <a:off x="3981600" y="2668320"/>
            <a:ext cx="187200" cy="4078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Line 108"/>
          <p:cNvSpPr/>
          <p:nvPr/>
        </p:nvSpPr>
        <p:spPr>
          <a:xfrm flipV="1">
            <a:off x="4168800" y="2343240"/>
            <a:ext cx="204840" cy="325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Line 109"/>
          <p:cNvSpPr/>
          <p:nvPr/>
        </p:nvSpPr>
        <p:spPr>
          <a:xfrm flipV="1">
            <a:off x="4373640" y="2114280"/>
            <a:ext cx="204840" cy="228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Line 110"/>
          <p:cNvSpPr/>
          <p:nvPr/>
        </p:nvSpPr>
        <p:spPr>
          <a:xfrm flipV="1">
            <a:off x="4578480" y="2049120"/>
            <a:ext cx="204480" cy="651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Line 111"/>
          <p:cNvSpPr/>
          <p:nvPr/>
        </p:nvSpPr>
        <p:spPr>
          <a:xfrm>
            <a:off x="4782960" y="2049480"/>
            <a:ext cx="189000" cy="651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Line 112"/>
          <p:cNvSpPr/>
          <p:nvPr/>
        </p:nvSpPr>
        <p:spPr>
          <a:xfrm>
            <a:off x="4971960" y="2114640"/>
            <a:ext cx="204840" cy="228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7" name="Line 113"/>
          <p:cNvSpPr/>
          <p:nvPr/>
        </p:nvSpPr>
        <p:spPr>
          <a:xfrm>
            <a:off x="5176800" y="2343240"/>
            <a:ext cx="204840" cy="325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Line 114"/>
          <p:cNvSpPr/>
          <p:nvPr/>
        </p:nvSpPr>
        <p:spPr>
          <a:xfrm>
            <a:off x="5381640" y="2668680"/>
            <a:ext cx="187200" cy="4078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9" name="Line 115"/>
          <p:cNvSpPr/>
          <p:nvPr/>
        </p:nvSpPr>
        <p:spPr>
          <a:xfrm>
            <a:off x="5568840" y="3076560"/>
            <a:ext cx="204840" cy="4237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0" name="Line 116"/>
          <p:cNvSpPr/>
          <p:nvPr/>
        </p:nvSpPr>
        <p:spPr>
          <a:xfrm>
            <a:off x="5773680" y="3500280"/>
            <a:ext cx="204840" cy="4413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1" name="Line 117"/>
          <p:cNvSpPr/>
          <p:nvPr/>
        </p:nvSpPr>
        <p:spPr>
          <a:xfrm>
            <a:off x="5978520" y="3941640"/>
            <a:ext cx="187200" cy="390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2" name="Line 118"/>
          <p:cNvSpPr/>
          <p:nvPr/>
        </p:nvSpPr>
        <p:spPr>
          <a:xfrm>
            <a:off x="6165720" y="4332240"/>
            <a:ext cx="204840" cy="3430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3" name="Line 119"/>
          <p:cNvSpPr/>
          <p:nvPr/>
        </p:nvSpPr>
        <p:spPr>
          <a:xfrm>
            <a:off x="6370560" y="4675320"/>
            <a:ext cx="206280" cy="2761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Line 120"/>
          <p:cNvSpPr/>
          <p:nvPr/>
        </p:nvSpPr>
        <p:spPr>
          <a:xfrm>
            <a:off x="6576840" y="4951440"/>
            <a:ext cx="187560" cy="2127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5" name="Line 121"/>
          <p:cNvSpPr/>
          <p:nvPr/>
        </p:nvSpPr>
        <p:spPr>
          <a:xfrm>
            <a:off x="6764400" y="5164200"/>
            <a:ext cx="204840" cy="1792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6" name="Line 122"/>
          <p:cNvSpPr/>
          <p:nvPr/>
        </p:nvSpPr>
        <p:spPr>
          <a:xfrm>
            <a:off x="6969240" y="5343480"/>
            <a:ext cx="204840" cy="1144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7" name="Line 123"/>
          <p:cNvSpPr/>
          <p:nvPr/>
        </p:nvSpPr>
        <p:spPr>
          <a:xfrm>
            <a:off x="7174080" y="5457960"/>
            <a:ext cx="187200" cy="810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8" name="Line 124"/>
          <p:cNvSpPr/>
          <p:nvPr/>
        </p:nvSpPr>
        <p:spPr>
          <a:xfrm>
            <a:off x="7361280" y="5538960"/>
            <a:ext cx="204840" cy="64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9" name="Line 125"/>
          <p:cNvSpPr/>
          <p:nvPr/>
        </p:nvSpPr>
        <p:spPr>
          <a:xfrm>
            <a:off x="7566120" y="5603760"/>
            <a:ext cx="204840" cy="334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0" name="Line 126"/>
          <p:cNvSpPr/>
          <p:nvPr/>
        </p:nvSpPr>
        <p:spPr>
          <a:xfrm>
            <a:off x="7770960" y="5637240"/>
            <a:ext cx="18864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1" name="Line 127"/>
          <p:cNvSpPr/>
          <p:nvPr/>
        </p:nvSpPr>
        <p:spPr>
          <a:xfrm>
            <a:off x="7959600" y="5653080"/>
            <a:ext cx="20484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2" name="Line 128"/>
          <p:cNvSpPr/>
          <p:nvPr/>
        </p:nvSpPr>
        <p:spPr>
          <a:xfrm>
            <a:off x="8164440" y="5668920"/>
            <a:ext cx="204840" cy="176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3" name="Line 129"/>
          <p:cNvSpPr/>
          <p:nvPr/>
        </p:nvSpPr>
        <p:spPr>
          <a:xfrm>
            <a:off x="8369280" y="5686560"/>
            <a:ext cx="187200" cy="1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Line 130"/>
          <p:cNvSpPr/>
          <p:nvPr/>
        </p:nvSpPr>
        <p:spPr>
          <a:xfrm>
            <a:off x="8556480" y="5686560"/>
            <a:ext cx="20484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5" name="Rectangle 30"/>
          <p:cNvSpPr/>
          <p:nvPr/>
        </p:nvSpPr>
        <p:spPr>
          <a:xfrm>
            <a:off x="1040040" y="468360"/>
            <a:ext cx="603180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entury Schoolbook"/>
              </a:rPr>
              <a:t>Double-Sided </a:t>
            </a:r>
            <a:r>
              <a:rPr b="0" i="1" lang="en-US" sz="3600" spc="-1" strike="noStrike">
                <a:solidFill>
                  <a:srgbClr val="000080"/>
                </a:solidFill>
                <a:latin typeface="Century Schoolbook"/>
              </a:rPr>
              <a:t>t</a:t>
            </a:r>
            <a:r>
              <a:rPr b="0" lang="en-US" sz="3600" spc="-1" strike="noStrike">
                <a:solidFill>
                  <a:srgbClr val="000080"/>
                </a:solidFill>
                <a:latin typeface="Century Schoolbook"/>
              </a:rPr>
              <a:t> Distribution</a:t>
            </a:r>
            <a:endParaRPr b="0" lang="en-US" sz="3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6419880" y="5886360"/>
            <a:ext cx="1413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t70(a/2,n-2)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Arc 32"/>
          <p:cNvSpPr/>
          <p:nvPr/>
        </p:nvSpPr>
        <p:spPr>
          <a:xfrm>
            <a:off x="6130800" y="5676840"/>
            <a:ext cx="343080" cy="3999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8" name="Rectangle 33"/>
          <p:cNvSpPr/>
          <p:nvPr/>
        </p:nvSpPr>
        <p:spPr>
          <a:xfrm>
            <a:off x="7018560" y="3792600"/>
            <a:ext cx="1796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15% in this tail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Arc 34"/>
          <p:cNvSpPr/>
          <p:nvPr/>
        </p:nvSpPr>
        <p:spPr>
          <a:xfrm>
            <a:off x="6473880" y="3940200"/>
            <a:ext cx="671400" cy="7430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462"/>
                </a:moveTo>
                <a:cubicBezTo>
                  <a:pt x="76" y="9606"/>
                  <a:pt x="9693" y="28"/>
                  <a:pt x="21549" y="0"/>
                </a:cubicBezTo>
              </a:path>
              <a:path stroke="0" w="21600" h="21600">
                <a:moveTo>
                  <a:pt x="0" y="21462"/>
                </a:moveTo>
                <a:cubicBezTo>
                  <a:pt x="76" y="9606"/>
                  <a:pt x="9693" y="28"/>
                  <a:pt x="21549" y="0"/>
                </a:cubicBezTo>
                <a:lnTo>
                  <a:pt x="21600" y="21600"/>
                </a:lnTo>
                <a:lnTo>
                  <a:pt x="0" y="21462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6076800" y="1228680"/>
            <a:ext cx="22388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70% in central part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Arc 38"/>
          <p:cNvSpPr/>
          <p:nvPr/>
        </p:nvSpPr>
        <p:spPr>
          <a:xfrm>
            <a:off x="5234040" y="1397160"/>
            <a:ext cx="914400" cy="549000"/>
          </a:xfrm>
          <a:custGeom>
            <a:avLst/>
            <a:gdLst/>
            <a:ahLst/>
            <a:rect l="l" t="t" r="r" b="b"/>
            <a:pathLst>
              <a:path fill="none" w="21599" h="21600">
                <a:moveTo>
                  <a:pt x="-1" y="21412"/>
                </a:moveTo>
                <a:cubicBezTo>
                  <a:pt x="102" y="9571"/>
                  <a:pt x="9719" y="20"/>
                  <a:pt x="21561" y="0"/>
                </a:cubicBezTo>
              </a:path>
              <a:path stroke="0" w="21599" h="21600">
                <a:moveTo>
                  <a:pt x="-1" y="21412"/>
                </a:moveTo>
                <a:cubicBezTo>
                  <a:pt x="102" y="9571"/>
                  <a:pt x="9719" y="20"/>
                  <a:pt x="21561" y="0"/>
                </a:cubicBezTo>
                <a:lnTo>
                  <a:pt x="21599" y="21600"/>
                </a:lnTo>
                <a:lnTo>
                  <a:pt x="-1" y="21412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2" name="Arc 36"/>
          <p:cNvSpPr/>
          <p:nvPr/>
        </p:nvSpPr>
        <p:spPr>
          <a:xfrm>
            <a:off x="2467080" y="3968640"/>
            <a:ext cx="630000" cy="642960"/>
          </a:xfrm>
          <a:custGeom>
            <a:avLst/>
            <a:gdLst/>
            <a:ahLst/>
            <a:rect l="l" t="t" r="r" b="b"/>
            <a:pathLst>
              <a:path fill="none" w="21655" h="21600">
                <a:moveTo>
                  <a:pt x="0" y="0"/>
                </a:moveTo>
                <a:cubicBezTo>
                  <a:pt x="18" y="0"/>
                  <a:pt x="36" y="-1"/>
                  <a:pt x="55" y="0"/>
                </a:cubicBezTo>
                <a:cubicBezTo>
                  <a:pt x="11984" y="0"/>
                  <a:pt x="21655" y="9670"/>
                  <a:pt x="21655" y="21600"/>
                </a:cubicBezTo>
              </a:path>
              <a:path stroke="0" w="21655" h="21600">
                <a:moveTo>
                  <a:pt x="0" y="0"/>
                </a:moveTo>
                <a:cubicBezTo>
                  <a:pt x="18" y="0"/>
                  <a:pt x="36" y="-1"/>
                  <a:pt x="55" y="0"/>
                </a:cubicBezTo>
                <a:cubicBezTo>
                  <a:pt x="11984" y="0"/>
                  <a:pt x="21655" y="9670"/>
                  <a:pt x="21655" y="21600"/>
                </a:cubicBezTo>
                <a:lnTo>
                  <a:pt x="55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Rectangle 35"/>
          <p:cNvSpPr/>
          <p:nvPr/>
        </p:nvSpPr>
        <p:spPr>
          <a:xfrm>
            <a:off x="774720" y="3792600"/>
            <a:ext cx="1796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15% in this tail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84" name="Group 20"/>
          <p:cNvGrpSpPr/>
          <p:nvPr/>
        </p:nvGrpSpPr>
        <p:grpSpPr>
          <a:xfrm>
            <a:off x="2328840" y="4133520"/>
            <a:ext cx="1154160" cy="1491120"/>
            <a:chOff x="2328840" y="4133520"/>
            <a:chExt cx="1154160" cy="1491120"/>
          </a:xfrm>
        </p:grpSpPr>
        <p:sp>
          <p:nvSpPr>
            <p:cNvPr id="285" name="Line 21"/>
            <p:cNvSpPr/>
            <p:nvPr/>
          </p:nvSpPr>
          <p:spPr>
            <a:xfrm flipV="1">
              <a:off x="3483000" y="4133520"/>
              <a:ext cx="0" cy="14749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6" name="Line 22"/>
            <p:cNvSpPr/>
            <p:nvPr/>
          </p:nvSpPr>
          <p:spPr>
            <a:xfrm flipH="1" flipV="1">
              <a:off x="3342960" y="4425840"/>
              <a:ext cx="122040" cy="185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 flipV="1">
              <a:off x="3244320" y="4619160"/>
              <a:ext cx="219240" cy="2494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 flipH="1" flipV="1">
              <a:off x="3149280" y="4776480"/>
              <a:ext cx="315720" cy="3301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3033360" y="4924440"/>
              <a:ext cx="430200" cy="4111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H="1" flipV="1">
              <a:off x="2903040" y="5067360"/>
              <a:ext cx="559080" cy="509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1" name="Line 27"/>
            <p:cNvSpPr/>
            <p:nvPr/>
          </p:nvSpPr>
          <p:spPr>
            <a:xfrm flipH="1" flipV="1">
              <a:off x="2760840" y="5213520"/>
              <a:ext cx="412560" cy="4111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2" name="Line 28"/>
            <p:cNvSpPr/>
            <p:nvPr/>
          </p:nvSpPr>
          <p:spPr>
            <a:xfrm flipH="1" flipV="1">
              <a:off x="2538000" y="5339880"/>
              <a:ext cx="282600" cy="2826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3" name="Line 29"/>
            <p:cNvSpPr/>
            <p:nvPr/>
          </p:nvSpPr>
          <p:spPr>
            <a:xfrm flipH="1" flipV="1">
              <a:off x="2328840" y="5452920"/>
              <a:ext cx="169920" cy="1695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94" name="Group 132"/>
          <p:cNvGrpSpPr/>
          <p:nvPr/>
        </p:nvGrpSpPr>
        <p:grpSpPr>
          <a:xfrm>
            <a:off x="6110280" y="4173120"/>
            <a:ext cx="1316160" cy="1497600"/>
            <a:chOff x="6110280" y="4173120"/>
            <a:chExt cx="1316160" cy="1497600"/>
          </a:xfrm>
        </p:grpSpPr>
        <p:sp>
          <p:nvSpPr>
            <p:cNvPr id="295" name="Line 9"/>
            <p:cNvSpPr/>
            <p:nvPr/>
          </p:nvSpPr>
          <p:spPr>
            <a:xfrm flipV="1">
              <a:off x="6126120" y="4173120"/>
              <a:ext cx="0" cy="1490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 flipV="1">
              <a:off x="6145200" y="4435560"/>
              <a:ext cx="138240" cy="185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V="1">
              <a:off x="6113520" y="4608000"/>
              <a:ext cx="250920" cy="2984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 flipV="1">
              <a:off x="6129360" y="4770360"/>
              <a:ext cx="331920" cy="3636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6310440" y="5154480"/>
              <a:ext cx="466560" cy="4939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 flipV="1">
              <a:off x="6129360" y="5008680"/>
              <a:ext cx="541440" cy="5587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1" name="Line 16"/>
            <p:cNvSpPr/>
            <p:nvPr/>
          </p:nvSpPr>
          <p:spPr>
            <a:xfrm flipV="1">
              <a:off x="6568920" y="5284800"/>
              <a:ext cx="373320" cy="3859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 flipV="1">
              <a:off x="6815160" y="5381640"/>
              <a:ext cx="272880" cy="272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 flipV="1">
              <a:off x="7058160" y="5452920"/>
              <a:ext cx="217440" cy="1987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4" name="Line 19"/>
            <p:cNvSpPr/>
            <p:nvPr/>
          </p:nvSpPr>
          <p:spPr>
            <a:xfrm flipV="1">
              <a:off x="7273800" y="5509800"/>
              <a:ext cx="152640" cy="1429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5" name="Line 13"/>
            <p:cNvSpPr/>
            <p:nvPr/>
          </p:nvSpPr>
          <p:spPr>
            <a:xfrm flipV="1">
              <a:off x="6110280" y="4915080"/>
              <a:ext cx="428760" cy="4442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inding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entury Schoolbook"/>
              </a:rPr>
              <a:t>70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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,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dof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28440" y="1501560"/>
            <a:ext cx="7802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70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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 dof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upper limit of the integr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degrees of freedom which i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-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this prog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lnSpc>
                <a:spcPct val="100000"/>
              </a:lnSpc>
              <a:buClr>
                <a:srgbClr val="ffffff"/>
              </a:buClr>
              <a:buFont typeface="Symbol" charset="2"/>
              <a:buChar char="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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1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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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1,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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2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</a:t>
            </a:r>
            <a:r>
              <a:rPr b="1" lang="en-US" sz="2000" spc="-1" strike="noStrike" baseline="38000">
                <a:solidFill>
                  <a:srgbClr val="ffffff"/>
                </a:solidFill>
                <a:latin typeface="Symbol"/>
                <a:ea typeface="Symbol"/>
              </a:rPr>
              <a:t>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lnSpc>
                <a:spcPct val="100000"/>
              </a:lnSpc>
              <a:buClr>
                <a:srgbClr val="ffffff"/>
              </a:buClr>
              <a:buFont typeface="Symbol" charset="2"/>
              <a:buChar char="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The above equation differs from equation A8, page 518, 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tituting 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f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ing the integral to one side and integrating from 0 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stead of from -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566720" y="1866960"/>
                <a:ext cx="487044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o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o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of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of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of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alculate the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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a trial value for upper limit of 1 and calculate the value of the integr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result to the desired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result of the integration is too low, pick a larger trial upper lim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result of the integration is too high, pick a smaller trial upper lim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successive trial integrations until the value of the integration is within an acceptable error, say 0.0000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70%, integrate to get 0.35 (0.85 - 0.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90%, integrate to get 0.45 (0.95 - 0.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 </a:t>
            </a:r>
            <a:r>
              <a:rPr b="0" i="1" lang="en-US" sz="2800" spc="-1" strike="noStrike">
                <a:solidFill>
                  <a:srgbClr val="ffffff"/>
                </a:solidFill>
                <a:latin typeface="Century Schoolboo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way to make this calculation is use the following eight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 Start with a trial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say 1.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 Make an initial integral and test to see if i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s the proper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if not, contin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 If it is too low, ad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5 to tri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 If it is too high, subtrac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5 from tri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 Integrate again and test if the result i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an acceptable error; if not contin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  If too low, adjus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ad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tri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  If too high, adjus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subtrac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ri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  Recycle at 5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29880" y="509400"/>
            <a:ext cx="7821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ntinued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ules for adjust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long as the tests for the error of the results  give the same sign of the error, leav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unchanged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ever the sign of the error changes, divid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 2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at this method of adjust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ld result in a trial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guard against a problem with Simpson’s method, ensure that the program will handle a 0 value of the function being integra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alculating the Value of </a:t>
            </a: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ntinued)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initial integral value was too low, add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5 gav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.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ext integral is too low ad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5 again, giv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2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ext integral is too high, se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2 = 0.25 and subtract, giv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.7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ext integral is too low, se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2 = 0.125 and add, giv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.87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ext integral is too low again, ad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125 again, giv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2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 in this way until the error is accep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1.1 process, complete the planning phase for assignment 6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1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.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6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6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6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1.1, write a program to calculate the estimated new and changed LOC and the 70% and 90% prediction intervals, given a set of historical size data and an object LOC estimat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Simpson’s rule integration routine from program 5A to calculate the value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linked list to store th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6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oughly test the program.  At a minimum, use this program to calculate the new and changed LOC estimate and the 70% and 90% prediction interval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d object LOC and the actual new and changed LOC in table D8 (page 756) with an estimated object LOC of 38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estimated new and changed LOC and your actual new and changed LOC for programs 2A-5A with your estimated object LOC for program 6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6A Requiremen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these data in the test report, using the format in table D11 (page 758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214720" y="2359080"/>
          <a:ext cx="4941720" cy="259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359080"/>
                    <a:ext cx="4941720" cy="2593800"/>
                  </a:xfrm>
                  <a:prstGeom prst="rect">
                    <a:avLst/>
                  </a:prstGeom>
                  <a:ln w="93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diction Interva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ediction interval provides a likely range around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70% prediction interval gives the range within which 70% of the estimates will fa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a forecast, only an expect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only applies if the estimate behaves like th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calculated from the same data used to calculate the regression paramet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diction Interval Procedur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alculate the prediction interval, use the following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in your historic data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’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’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in your estimate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a projection a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 *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a 70%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UPI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+ Range (70%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LPI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- Range (70%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 steps 5-7 for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a 90%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t your resul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diction Interval Procedur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calculating the prediction rang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your historical object size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historical data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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is the 70% two-side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distribution for n – 2 degrees of freedom 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The above equation for the prediction range differs from equation A15, page 548, by substitut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f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939960" y="1984320"/>
                <a:ext cx="601488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of</m:t>
                        </m:r>
                      </m:e>
                    </m:d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vg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avg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8Z</dcterms:modified>
  <cp:revision>143</cp:revision>
  <dc:subject/>
  <dc:title>No Slide Title</dc:title>
</cp:coreProperties>
</file>