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79394CE-0FE8-41F1-91FF-4A8EBAAD97E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1298F8-D5A5-4D19-B5CE-9E2B9F8FEA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F1EC92E-A29E-488A-B931-9C51F4621FC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B831EB3-BB08-43C3-9C6B-1EEB43FB7F5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CD0454F-F636-4B17-A298-288EE3BC093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0A85115-FD8D-4A02-A75D-409F686EBC2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FC1BF41-2FA7-440E-BF06-5402A21A113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24A47B8-63A4-459C-AB7C-BC065FA9F5C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EF10CA-6676-45DF-84D2-8A3EFAA03B2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0E0BD11-4053-4811-A7D4-3652363AE93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7B06842-5194-49DE-8190-23089D60684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21308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4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Plann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ROBE method to estimate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ident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other program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estimating ba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estimate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resou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calculate prediction intervals for this program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 the Plan Summar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data from the size estimating template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 the planned time us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 percent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program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the planned LOC/hour, using the estimated new and changed LOC and the planned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4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4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linear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 se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 the linked list developed in program 1A to stor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ts, where each data set contains exactly two real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with three data se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 and actual N&amp;C LOC (table D8, page 75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&amp;C LOC and actual N&amp;C LOC (table D8, page 75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&amp;C LOC and actual N&amp;C LOC for your programs 2A, 3A, and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252520" y="3710160"/>
          <a:ext cx="426276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2520" y="3710160"/>
                    <a:ext cx="42627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report of your tests that includes a table of the planned and actual results from these tests in the format of table D9, page 75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1028"/>
          <p:cNvGraphicFramePr/>
          <p:nvPr/>
        </p:nvGraphicFramePr>
        <p:xfrm>
          <a:off x="2011320" y="2563920"/>
          <a:ext cx="5300640" cy="134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1320" y="2563920"/>
                    <a:ext cx="53006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Parameter -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regression paramete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090440" y="1871640"/>
            <a:ext cx="5394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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avg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vg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14)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Parameter -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regression paramete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076"/>
              <p:cNvSpPr txBox="1"/>
              <p:nvPr/>
            </p:nvSpPr>
            <p:spPr>
              <a:xfrm>
                <a:off x="920880" y="1914480"/>
                <a:ext cx="58672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 process, complete the planning phase for assignment 4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7Z</dcterms:modified>
  <cp:revision>134</cp:revision>
  <dc:subject/>
  <dc:title>No Slide Title</dc:title>
</cp:coreProperties>
</file>