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68F938C-2E0D-4835-AE20-CE5B1244C7CE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E77D808B-E797-4256-9270-FADB21E3F30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698FB18-E836-4B06-ABA6-2AFE0D66F31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B62227D-F059-4C74-85E6-B4E1E9AA77D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F95E1A3-7C81-4F28-9752-ADA0C810A44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A7F0DD2-D8A0-4901-8A1C-EF6AD860D0C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1F47289-8009-42EC-9892-1FB33AC240A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4F23C37-6EDB-49DD-982C-0A07E595778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7A0DB20-31FC-4440-8DAF-BEBFA103DBF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F9BD3CB-2CAC-4730-A529-73879718C93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F89DA54-ACA6-43A1-83FF-22D8F6C74F8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26A3386-D735-46CB-B70F-8EA10080EB4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4C8B97A-60E8-4D05-8D4E-917F59188B7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C741967-DAF8-4329-8C70-15EB8C4F0C1F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7F8A669-868D-4A44-9232-16D914D6A5C8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213080" y="6567480"/>
            <a:ext cx="797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une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1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ed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, test results, not code, are evaluated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, you should complete this assignment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1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1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mean and standard deviation of a series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al numb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gram must read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al numbers from the keyboard, a file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linked list to hold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umbers for the calcu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oughly test the program. At least three of the tests should use the data in in the three columns below (table D5, page 753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Object LOC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New and Changed LOC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velopment Hou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6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86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15.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9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9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69.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4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32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6.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2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72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22.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3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9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28.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7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3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65.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19.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657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89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198.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24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88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38.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503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6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138.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50.6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38.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60.3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d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72.03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25.63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62.2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v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an and Standard Deviation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ean is the averag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umb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andard deviation is calculated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symbol for standard dev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symbol for summ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is an index to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u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 baseline="-20000">
                <a:solidFill>
                  <a:srgbClr val="ffffff"/>
                </a:solidFill>
                <a:latin typeface="Arial"/>
              </a:rPr>
              <a:t>av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average value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u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013120" y="2367000"/>
            <a:ext cx="3735360" cy="1574640"/>
            <a:chOff x="2013120" y="2367000"/>
            <a:chExt cx="3735360" cy="1574640"/>
          </a:xfrm>
        </p:grpSpPr>
        <p:sp>
          <p:nvSpPr>
            <p:cNvPr id="169" name="Rectangle 5"/>
            <p:cNvSpPr/>
            <p:nvPr/>
          </p:nvSpPr>
          <p:spPr>
            <a:xfrm>
              <a:off x="2013120" y="2367000"/>
              <a:ext cx="3735360" cy="15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graphicFrame>
          <p:nvGraphicFramePr>
            <p:cNvPr id="170" name="Object 6"/>
            <p:cNvGraphicFramePr/>
            <p:nvPr/>
          </p:nvGraphicFramePr>
          <p:xfrm>
            <a:off x="2295720" y="2489040"/>
            <a:ext cx="3322800" cy="129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5720" y="2489040"/>
                      <a:ext cx="3322800" cy="12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inked Lists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26560" y="1463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ed list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mon abstract data type used to maintain collections of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ed with poin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linked list often has these compon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19080" y="4230720"/>
            <a:ext cx="6908760" cy="1765440"/>
            <a:chOff x="919080" y="4230720"/>
            <a:chExt cx="6908760" cy="1765440"/>
          </a:xfrm>
        </p:grpSpPr>
        <p:sp>
          <p:nvSpPr>
            <p:cNvPr id="175" name="Rectangle 5"/>
            <p:cNvSpPr/>
            <p:nvPr/>
          </p:nvSpPr>
          <p:spPr>
            <a:xfrm>
              <a:off x="2997720" y="4853160"/>
              <a:ext cx="22546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ers to next nod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3765600" y="4302360"/>
              <a:ext cx="717480" cy="565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HEAD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919080" y="5274000"/>
              <a:ext cx="1067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NODE 1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2355840" y="5274000"/>
              <a:ext cx="1046160" cy="349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NODE 2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6481800" y="5274000"/>
              <a:ext cx="1346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NODE n  </a:t>
              </a: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null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3919680" y="5335920"/>
              <a:ext cx="3542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1" name="Arc 11"/>
            <p:cNvSpPr/>
            <p:nvPr/>
          </p:nvSpPr>
          <p:spPr>
            <a:xfrm>
              <a:off x="1595520" y="4754880"/>
              <a:ext cx="2286000" cy="533160"/>
            </a:xfrm>
            <a:custGeom>
              <a:avLst/>
              <a:gdLst/>
              <a:ahLst/>
              <a:rect l="l" t="t" r="r" b="b"/>
              <a:pathLst>
                <a:path fill="none" w="21369" h="21600">
                  <a:moveTo>
                    <a:pt x="-1" y="18450"/>
                  </a:moveTo>
                  <a:cubicBezTo>
                    <a:pt x="1560" y="7857"/>
                    <a:pt x="10646" y="7"/>
                    <a:pt x="21354" y="0"/>
                  </a:cubicBezTo>
                </a:path>
                <a:path stroke="0" w="21369" h="21600">
                  <a:moveTo>
                    <a:pt x="-1" y="18450"/>
                  </a:moveTo>
                  <a:cubicBezTo>
                    <a:pt x="1560" y="7857"/>
                    <a:pt x="10646" y="7"/>
                    <a:pt x="21354" y="0"/>
                  </a:cubicBezTo>
                  <a:lnTo>
                    <a:pt x="21369" y="21600"/>
                  </a:lnTo>
                  <a:lnTo>
                    <a:pt x="-1" y="1845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Arc 12"/>
            <p:cNvSpPr/>
            <p:nvPr/>
          </p:nvSpPr>
          <p:spPr>
            <a:xfrm>
              <a:off x="4419720" y="4748400"/>
              <a:ext cx="2495520" cy="463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13" y="0"/>
                  </a:moveTo>
                  <a:cubicBezTo>
                    <a:pt x="11937" y="7"/>
                    <a:pt x="21600" y="9676"/>
                    <a:pt x="21600" y="21600"/>
                  </a:cubicBezTo>
                </a:path>
                <a:path stroke="0" w="21600" h="21600">
                  <a:moveTo>
                    <a:pt x="13" y="0"/>
                  </a:moveTo>
                  <a:cubicBezTo>
                    <a:pt x="11937" y="7"/>
                    <a:pt x="21600" y="9676"/>
                    <a:pt x="21600" y="21600"/>
                  </a:cubicBezTo>
                  <a:lnTo>
                    <a:pt x="0" y="21600"/>
                  </a:lnTo>
                  <a:lnTo>
                    <a:pt x="13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1909800" y="5480280"/>
              <a:ext cx="44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338640" y="5480280"/>
              <a:ext cx="520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4818240" y="5274000"/>
              <a:ext cx="1238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NODE n-1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4398840" y="5480280"/>
              <a:ext cx="432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>
              <a:off x="2405880" y="4249800"/>
              <a:ext cx="13539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e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 first nod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4499280" y="4230720"/>
              <a:ext cx="1320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e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 last nod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5954760" y="5480280"/>
              <a:ext cx="533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Rectangle 20"/>
            <p:cNvSpPr/>
            <p:nvPr/>
          </p:nvSpPr>
          <p:spPr>
            <a:xfrm>
              <a:off x="919080" y="5642280"/>
              <a:ext cx="1067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Dat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Rectangle 21"/>
            <p:cNvSpPr/>
            <p:nvPr/>
          </p:nvSpPr>
          <p:spPr>
            <a:xfrm>
              <a:off x="2357640" y="5646960"/>
              <a:ext cx="1046160" cy="349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Dat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4818240" y="5642280"/>
              <a:ext cx="1238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Dat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Rectangle 23"/>
            <p:cNvSpPr/>
            <p:nvPr/>
          </p:nvSpPr>
          <p:spPr>
            <a:xfrm>
              <a:off x="6481800" y="5642280"/>
              <a:ext cx="1346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Dat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>
              <a:off x="1797120" y="5280120"/>
              <a:ext cx="0" cy="336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Line 25"/>
            <p:cNvSpPr/>
            <p:nvPr/>
          </p:nvSpPr>
          <p:spPr>
            <a:xfrm>
              <a:off x="3243240" y="5267520"/>
              <a:ext cx="0" cy="349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>
              <a:off x="5873760" y="5280120"/>
              <a:ext cx="0" cy="336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7410600" y="5280120"/>
              <a:ext cx="0" cy="336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3772080" y="4626000"/>
              <a:ext cx="7174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9" name="Line 29"/>
            <p:cNvSpPr/>
            <p:nvPr/>
          </p:nvSpPr>
          <p:spPr>
            <a:xfrm>
              <a:off x="4121280" y="4632480"/>
              <a:ext cx="0" cy="2221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inked Lis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of the options for linked list structure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ist head can point to the first node, last node, or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list node can point to the next node, prior node, or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null value pointer is normally used to indicate an empty list or the end of the li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 operations on a linked list include add node, remove node, next node, and prior n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0 process, complete the planning phase for assignment 1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15Z</dcterms:modified>
  <cp:revision>120</cp:revision>
  <dc:subject/>
  <dc:title>No Slide Title</dc:title>
</cp:coreProperties>
</file>